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3D2-B752-4FE7-9833-4AB74FCE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DCF1-840A-4C82-AA8A-6D8B7EA6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3E0-0731-497C-BD86-98007CC7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932B-D2FD-49E5-874F-3546053D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BA571-C79D-4070-B053-0E3FEFF0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477F8-39FA-48CE-9716-CE921BB0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8D402-6B51-49B4-89A3-4C1A4C00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6607B-69B5-41A0-A26C-BBEC3D8B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EEC79-AD99-408B-A3AB-28F5E6D4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13711-E38A-4F6A-AD9F-28E3F5D6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51E7B-A816-403C-909A-9F6ACF9F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E8FA-C8F8-4B78-A62C-0BAEB85E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0DE3D-E810-4F2C-AD9D-323CDDD6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C3FDB-FC4B-424B-9E8A-70AE28DD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BC5CE-7709-4C93-A2FE-2AAA8485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C1511-AED8-4537-804F-A228DD31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D19BB-E154-43A3-AC20-DD4F259D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4C4A-DD8C-46C8-897D-5A7FBE71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F93-89AB-4247-934A-A1D69545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DE57-FA49-4F1B-99D9-352DBBF0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499B-06A7-46E7-8F8A-33CE1268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56B-68ED-4016-9B1A-C3E23740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718-FE5C-4A80-B2D4-EBB71739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E46-50A0-4B5E-BAD4-6DF87CFE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6251-717C-4931-9200-13BBD38A2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3A3E-99B8-4EA0-8B86-BD6A606EFC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ellsalive.com/cells/cell_model.htm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learn.genetics.utah.edu/content/begin/cells/insideacell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ience Notebook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venue to cross curricular 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129120" y="2209680"/>
            <a:ext cx="601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Is their evidence of progress, learning?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00840" y="2971800"/>
            <a:ext cx="772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Are the students questioning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Are the students writing predictions? Hypothesizing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Is their evidence of recording and organizing notes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Do you see personal reflections in the work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Are the students using the notebooks effectively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as a resource in their own learning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594440" y="94608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formal Peer Assessmen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99720" y="1860480"/>
            <a:ext cx="769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your journal on the next page please make the following chart: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025600" y="2894760"/>
            <a:ext cx="22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  <a:ea typeface="Times New Roman"/>
              </a:rPr>
              <a:t>YES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  <a:ea typeface="Times New Roman"/>
              </a:rPr>
              <a:t>NO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52480" y="3200400"/>
          <a:ext cx="5623200" cy="2590920"/>
        </p:xfrm>
        <a:graphic>
          <a:graphicData uri="http://schemas.openxmlformats.org/drawingml/2006/table">
            <a:tbl>
              <a:tblPr/>
              <a:tblGrid>
                <a:gridCol w="4068720"/>
                <a:gridCol w="800280"/>
                <a:gridCol w="754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s there a student picture of a plant cell?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s there a student picture of an animal cell?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re the relevant standards colored or highlighted?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s the table of contents up to date?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oes the journal show student comprehension of structure and function?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103"/>
          <p:cNvSpPr/>
          <p:nvPr/>
        </p:nvSpPr>
        <p:spPr>
          <a:xfrm>
            <a:off x="0" y="48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5718600" y="68580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ELL THEOR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600200" y="3124080"/>
            <a:ext cx="611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Let’s integrate language arts into the lesson by incorporating a reading lesson of summarizing an article on the origins of cell theor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2232720" y="533520"/>
            <a:ext cx="44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 think this is enough how about you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660600" y="3200400"/>
            <a:ext cx="83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y now you should have a basic understanding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on how to incorporate science notebooks, or fo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hat matter any form of curriculum notebook into your daily classroom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379320" y="559440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Us as resource...time????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3914640" y="53352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LINK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960840" y="4038480"/>
            <a:ext cx="76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ttp://www.tvdsb.on.ca/WESTMIN/science/sbi3a1/Cells/cells.htm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286000" y="502920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ttp://www.cellsalive.com/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124080" y="2971800"/>
            <a:ext cx="526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ttp://www.ibiblio.org/virtualcell/index.htm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57120" y="1600200"/>
            <a:ext cx="74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ttp://learn.genetics.utah.edu/content/begin/cells/insideacell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/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534600" y="5943600"/>
            <a:ext cx="79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ttp://www.wiley.com/legacy/college/boyer/0470003790/animations/cell_structure/cell_structure.htm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740160" y="3056040"/>
            <a:ext cx="660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http://www.sciencenotebooks.org/faq/elem_faq.php#e3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582200" y="3733920"/>
            <a:ext cx="41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http://www.sciencenotebooks.org/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703240" y="4656240"/>
            <a:ext cx="595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http://www.ericdigests.org/2004-4/notebooks.htm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768960" y="2286000"/>
            <a:ext cx="75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Black"/>
              </a:rPr>
              <a:t>science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forall.com/whyteach</a:t>
            </a:r>
            <a:r>
              <a:rPr b="1" i="1" lang="en-US" sz="1600" spc="-1" strike="noStrike">
                <a:solidFill>
                  <a:srgbClr val="000000"/>
                </a:solidFill>
                <a:latin typeface="Arial Black"/>
              </a:rPr>
              <a:t>science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Arial Black"/>
              </a:rPr>
              <a:t>Elementary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%20</a:t>
            </a:r>
            <a:r>
              <a:rPr b="1" i="1" lang="en-US" sz="1600" spc="-1" strike="noStrike">
                <a:solidFill>
                  <a:srgbClr val="000000"/>
                </a:solidFill>
                <a:latin typeface="Arial Black"/>
              </a:rPr>
              <a:t>Science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%20</a:t>
            </a:r>
            <a:r>
              <a:rPr b="1" i="1" lang="en-US" sz="1600" spc="-1" strike="noStrike">
                <a:solidFill>
                  <a:srgbClr val="000000"/>
                </a:solidFill>
                <a:latin typeface="Arial Black"/>
              </a:rPr>
              <a:t>Notebooks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.doc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342080" y="2620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RESOURC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4680" y="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notebooks and research!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90720"/>
            <a:ext cx="80773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mHei"/>
              </a:rPr>
              <a:t>Writing in science enhances student understanding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mHei"/>
              </a:rPr>
              <a:t>of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mHei"/>
              </a:rPr>
              <a:t>scientific content and processe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imHei"/>
              </a:rPr>
              <a:t>(Bass, Baxter &amp; Glaser, 2001, 2000: Keys, Hand, Prain &amp; Collins, 1999: Rivard &amp; Straw, 2000: Shepardson &amp; Britsch, 1997)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895480" y="3200400"/>
            <a:ext cx="62485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Not only do science notebooks provide information about classroom experiences,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</a:rPr>
              <a:t>they imitate the journals that actual scientists use as they explore the world.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ericdigests.org/2004-4/notebooks.htm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0" y="5064120"/>
            <a:ext cx="4648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ngsuh"/>
              </a:rPr>
              <a:t>When students are able to write about something very immediate, especially English language learners, special-needs students, and early literacy learners, it helps them to make sense of what they have just seen or learned.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TA Web Seminar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-304920" y="3198240"/>
            <a:ext cx="7925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For Experiment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itle (heading) and date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ist of materials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scription of the activity (brief – possible to convey in drawings with labels)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bservations (a drawing with appropriate labels is ALWAYS expected)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swer, to the question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-148680" y="2666880"/>
            <a:ext cx="52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Page should include the following details: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-117360" y="0"/>
            <a:ext cx="40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onents of a science notebook: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020200" y="5079960"/>
            <a:ext cx="3440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For Informational Lesson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itle (heading) and date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esson (notes) from instructor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tudent generate response to lesson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8"/>
          <p:cNvSpPr/>
          <p:nvPr/>
        </p:nvSpPr>
        <p:spPr>
          <a:xfrm rot="1309200">
            <a:off x="6806520" y="8380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onderings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9"/>
          <p:cNvSpPr/>
          <p:nvPr/>
        </p:nvSpPr>
        <p:spPr>
          <a:xfrm rot="1092000">
            <a:off x="2705760" y="114264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Reflectio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10"/>
          <p:cNvSpPr/>
          <p:nvPr/>
        </p:nvSpPr>
        <p:spPr>
          <a:xfrm rot="20764800">
            <a:off x="1040040" y="57150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Eviden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11"/>
          <p:cNvSpPr/>
          <p:nvPr/>
        </p:nvSpPr>
        <p:spPr>
          <a:xfrm rot="21066000">
            <a:off x="1509120" y="2133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Dat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4446360" y="2057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Procedur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7547400" y="368928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Conclusion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592160" y="260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Drawing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15"/>
          <p:cNvSpPr/>
          <p:nvPr/>
        </p:nvSpPr>
        <p:spPr>
          <a:xfrm rot="21245400">
            <a:off x="6200640" y="281952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Hypothesi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6"/>
          <p:cNvSpPr/>
          <p:nvPr/>
        </p:nvSpPr>
        <p:spPr>
          <a:xfrm rot="20794200">
            <a:off x="402120" y="79344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Question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7"/>
          <p:cNvSpPr/>
          <p:nvPr/>
        </p:nvSpPr>
        <p:spPr>
          <a:xfrm rot="592200">
            <a:off x="7771680" y="205740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Wri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89160" y="1447920"/>
            <a:ext cx="78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ience Notebooks are an excellent tool for educational success when.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337400" y="2514600"/>
            <a:ext cx="705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hey are an embedded part of your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    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lassroom curriculum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88160" y="4192560"/>
            <a:ext cx="78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hey are used as a relevant and meaningful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ormative assessment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658600" y="6248520"/>
            <a:ext cx="66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Aschbacher &amp; Alonzo (2004) Presentation at California Institute of Technology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47760" y="0"/>
            <a:ext cx="84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When planning to use science notebooks…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o you have a plan or vision for their implementation?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351960" y="1371600"/>
            <a:ext cx="57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Have you provided a template for what students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should include in every entry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0" y="2743200"/>
            <a:ext cx="443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rior to implementation do your students have the organizational skills necessary to complete science notebooks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438000" y="4267080"/>
            <a:ext cx="56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How will you monitor and assess the notebooks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your students are creating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57200" y="5410080"/>
            <a:ext cx="641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Have you provided a classroom environment where students can use their notebooks for other cross curricular activities?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4425840" y="2413080"/>
            <a:ext cx="44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Assessing your science notebook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147400" y="3733920"/>
            <a:ext cx="391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ative assessmen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ubric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mmative assessmen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er feedback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ducator feedback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4160" y="533520"/>
            <a:ext cx="216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#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thor’s Pag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able of content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29200" y="1066680"/>
            <a:ext cx="305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#2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pectations from the educator, tie into state and district mandated standard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952440" y="469584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LET’S STAR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7094520" y="4716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ONTENT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066680" y="2286000"/>
            <a:ext cx="706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cience notebooks are a way for students to make observations, record thoughts and data.  Notebooks allow the student to see the sequence of scientific instruction and it’s implications in the real world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91760" y="4603680"/>
            <a:ext cx="52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hus…The structure and function of The Cel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960440" y="58993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ERMINOLOGY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5242680" y="38088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el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1701720"/>
            <a:ext cx="3505320" cy="291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3809880" cy="26193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7401240" y="495288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lant Cel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5760" y="167652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Animal Cel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971800" y="6324480"/>
            <a:ext cx="4981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ttp://</a:t>
            </a:r>
            <a:r>
              <a:rPr b="1" lang="en-US" sz="1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learn.genetics.utah.edu/content/begin/cells/insideacell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20:11:26Z</dcterms:created>
  <dc:creator>Jillian Worssam</dc:creator>
  <dc:description/>
  <dc:language>en-US</dc:language>
  <cp:lastModifiedBy>demo</cp:lastModifiedBy>
  <dcterms:modified xsi:type="dcterms:W3CDTF">2009-08-11T16:45:26Z</dcterms:modified>
  <cp:revision>20</cp:revision>
  <dc:subject/>
  <dc:title>Science Notebooks</dc:title>
</cp:coreProperties>
</file>